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669-53F0-40D1-A86B-FA75388E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1948-2372-4A4E-B2EC-59DC62B5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A29-D311-45A7-9F08-D0B537D7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C84-B4E7-47DE-96D7-92EF7EDA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6B12-7D96-4950-99DB-3290B8C3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6451-51DD-4944-8DB5-42CCE4D3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F2A4-5DFD-4A0A-85A7-F64E6415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C06B-1D9E-4AE0-B2E6-B7868B50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7C67-2894-4E8B-A737-0AF482CA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BB1A-56E4-4BCB-B377-00231143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5382-59D8-4CC8-98EB-D333D9FB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2B3-DD48-492A-9EE2-B2B56F75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57FF-9E85-4443-B933-1499E61F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6CAF-5791-48B6-9119-7E9348FE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2974-1F2B-4327-94D3-E0542907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D62D-A830-46BF-B7F8-BA354B83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7B2C-83FD-4D30-940A-779AF9B6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BCB-ED83-47E7-A20F-349FA9B8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2726-52EB-4F06-83E0-2F923A9F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A96-EFE6-49D2-A2DD-D6260648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7DD-7476-439E-9757-BD9229D5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32F-5703-419A-8BB3-F1B39E49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FA2-F0BA-4259-AB07-FFDBE98C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878-7CCB-4AB2-AB7F-12FFC03B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16F0-20D3-44B4-8A64-B300602CDDB1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F2E9-C67E-4F0C-ACDA-A05326FD90E9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 Mathe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his number increased by seventy is two hundred te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hundred fo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his number decreased by one hundred thirty-nine is twenty-six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hundred sixty-f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his number increased by forty is ninety-eight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y-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BONUS!! This number decreased by four hundred two AND one hundred is three hundred eleve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ght hundred thirt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his number decreased by two is te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el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his number decreased by twelve is twelv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el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his number increased by fourteen is thirty-fou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e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his number decreased by five hundred seven is two hundred fifty-on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 hundred fifty-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his number increased by three hundred forty is seven hundred te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hundred seve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11386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BONUS!! This number increased by one hundred fifty-two AND four hundred forty three is nine hundred thirty-on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hundred thirty-s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538280"/>
                <a:gridCol w="1538280"/>
                <a:gridCol w="1540080"/>
                <a:gridCol w="1538280"/>
                <a:gridCol w="1538280"/>
              </a:tblGrid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his number increased by two hundred seventy-one is six hundred forty-tw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hundred seventy-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This number decreased by three is fifty-on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y-f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his number decreased by two hundred thirty-nine is six hundred fourtee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ght hundred fifty-th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his number increased by five is te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his number increased by three is sixty-tw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y-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his number decreased by eighty-three is eighty-on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hundred sixty-f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his number increased by one hundred thirteen is four hundred ninety-tw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hundred seventy-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his number decreased by nineteen is sixtee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ty-f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his number decreased by eighty is eighty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hundred six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his number increased by fifty-nine is seventy-fiv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slamb</cp:lastModifiedBy>
  <dcterms:modified xsi:type="dcterms:W3CDTF">2009-05-07T02:37:47Z</dcterms:modified>
  <cp:revision>7</cp:revision>
  <dc:subject/>
  <dc:title>Twenty Questions </dc:title>
</cp:coreProperties>
</file>